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E9F-5AE6-44BF-8523-90D9A4D7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453-4008-4C4B-8A70-EDFCE5B0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674-4127-46CD-A922-33343B2E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41A-20B2-4C9D-956D-E981F9EF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A597-ECCB-445F-92AC-0D0A5942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BD16-7C8C-4489-BB82-CD4F5DAA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21B6-28A5-48D0-9999-D53115A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E357-6CD5-4877-B18D-9B0991A8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21C-5ABB-4706-A96D-0868DD8C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6A25-1489-4F65-B8E2-5222E1BD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6826-062A-4804-B97B-2F89ED42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3E2-FC95-4C26-9FCE-DB6757D1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57B-9812-4AF1-AE72-E49AF29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49EF-EA8C-4214-9012-5538995A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D0DD-D8C5-4868-8753-D0964D8E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9567-D837-44DF-94DD-54524E3C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6C0E-AFA3-4320-B48F-40819208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D36-EABD-4C9E-B71A-4C442CC2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63F-2E4B-43F4-8D58-A31EF79E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E1C-9644-43B3-82EF-8749ECE8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F1E-6CFF-43E7-828F-1D8B65DE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E2E-8996-4F2D-8499-83C977C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C0E-832D-4C4F-8D03-8D40060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F55-9AC3-4115-B9ED-3AF258EB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8547-08A9-47B5-87F3-CFA2EBD29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8AE7-C76D-4E13-8B67-BA2A782EA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Human Digestive Syste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completely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par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orld of Enzymatic “ases”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 (into duode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s bile and activates lip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s (into duode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ypsin &amp; Chymotryps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in to polypept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yl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ches into disacchar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p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s into fatty acids and gly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orld of Enzymatic “ases”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ino peptid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protein digestion (amino aci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t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tose into monosacchara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ct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tose into monosacchara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cr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rose into monosacchara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5 Digestive Goal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ly reduce size of food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food moist (hydroly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ly reduce molecular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1240" indent="-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POLYMERS into MON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b ALL possible usable chemical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1240" indent="-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BIG”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1240" indent="-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1240" indent="-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mins and mi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ALL unused “waste”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250" autoRev="1" fill="remov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93" dur="250" autoRev="1" fill="remov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4" dur="250" autoRev="1" fill="remove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50" autoRev="1" fill="remove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97" dur="250" autoRev="1" fill="remove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8" dur="250" autoRev="1" fill="remove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50" autoRev="1" fill="remov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1" dur="250" autoRev="1" fill="remov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02" dur="250" autoRev="1" fill="remov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250" autoRev="1" fill="remove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5" dur="250" autoRev="1" fill="remove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06" dur="250" autoRev="1" fill="remove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250" autoRev="1" fill="remove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9" dur="250" autoRev="1" fill="remove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0" dur="250" autoRev="1" fill="remove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50" autoRev="1" fill="remove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13" dur="250" autoRev="1" fill="remove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4" dur="250" autoRev="1" fill="remove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remove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remove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8" dur="250" autoRev="1" fill="remove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250" autoRev="1" fill="remove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21" dur="250" autoRev="1" fill="remove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2" dur="250" autoRev="1" fill="remove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50" autoRev="1" fill="remove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25" dur="250" autoRev="1" fill="remove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6" dur="250" autoRev="1" fill="remove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0166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XPLAIN…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itle 1"/>
          <p:cNvSpPr/>
          <p:nvPr/>
        </p:nvSpPr>
        <p:spPr>
          <a:xfrm>
            <a:off x="380880" y="61815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SE SUPPORTING INFOR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4000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ges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560" y="1676520"/>
            <a:ext cx="6553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ss of breaking down food into usable products for cellular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pening continues to one 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nly continuous pathway through the body with no solid barrier to cro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hase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cal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zy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outh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37920" y="16761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t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bricates and hydro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ch digestion beg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n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lus 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sophagu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cm long (12 in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ular tu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stal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ular contractions…wave-l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is actively m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 food upside dow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omach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layers of smooth muscle that “overlap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ds called rug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tric g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ats stomach and prevents enzymatic ac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tomach w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 (pH=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ds in di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s protein break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6 hrs.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2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mall Intest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cm diameter &amp; 7-8 meters l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ce of many villi…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sections (highly intertwin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ode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digestion occurs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ju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rption of carbs and prote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e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rption of fat, salts and large vitamins 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stinal gla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uscle lining and produce variety of flu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id is alkaline to neutralize H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15429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arge Intestine (Colon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cm diameter and 2 meters l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major sections and 2 min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ones are geometric…frames sm.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ending, transverse, desc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or ones are at beginning and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cum and Sigmoid c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endix (vestigi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 for bacteria to finish digestion (E. Co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vitamin K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1a5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58ff"/>
                </a:solidFill>
                <a:latin typeface="Calibri"/>
              </a:rPr>
              <a:t>Reabsorbs water into bod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l stop…rectum and anal op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ccessory gland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tic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3 different 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d into duoden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lin (not for digestion purpo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ulsifier (mechani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ly breaks up fat into smaller glob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orld of Enzymatic “ases”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l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8% water, salts, mucus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tyalin &amp; amy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starch into disacchar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tric ju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psinogen (inactive when not trigge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to pepsin when HCl pre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s hydrolysis of proteins into polypept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chloric acid (HC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lls most foreign bacteria present in f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s peps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1:33:46Z</dcterms:created>
  <dc:creator>John AJ O'Connor</dc:creator>
  <dc:description/>
  <dc:language>en-US</dc:language>
  <cp:lastModifiedBy>John AJ O'Connor</cp:lastModifiedBy>
  <dcterms:modified xsi:type="dcterms:W3CDTF">2011-04-20T02:58:57Z</dcterms:modified>
  <cp:revision>18</cp:revision>
  <dc:subject/>
  <dc:title>The Human Digestive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678229991</vt:lpwstr>
  </property>
</Properties>
</file>